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30C1-F03A-46D2-87B5-87941D4C8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7E4A-28DD-4945-A4B8-F6943496A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0 min</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252D-A820-48EC-91BE-5B923328C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0 min</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06FE-DFC1-44DE-82E9-74979FCDD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icky note feedback – 15 min</a:t>
            </a: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1B11-E5F7-4BA5-A601-DAA474247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CA82-A45B-44A3-BA20-F21429BC0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D8ED-437D-417D-A6ED-01B4C95AF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70B4-A286-4733-BA8B-456E4B9C1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less than 5 min</a:t>
            </a: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BB33-6BCD-417D-938C-A45187DAC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utes for triad, 10 min for whole group</a:t>
            </a: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B25D-3D88-4E07-A84C-987B3DDDC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plete BLM QR.1.3</a:t>
            </a: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E270-7F1C-4BC7-8D7E-B63A04037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llowed by creation of whole group Frayer Model on large chart paper.  10-15 min for that part.</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7DE4-2F15-438C-BCDB-858286BF2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A96C-ADB2-427B-BFEE-348393791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27362-50A2-4396-BAA2-F3B7242E3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B8158-C083-4C19-801B-80DBDD394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AF608-4303-43DA-9901-6F2B41BE8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46D73-11CC-4C3C-87BA-7589FEBF7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FA42C-CF75-4045-8C57-014B266A7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3F45C-3B59-4098-9DE7-854BFCB91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CC799-8926-49E5-B55E-7F0FB50FB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170E8-3218-4A7C-9014-3A8D7BDFC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C8E87-D87A-4A40-921E-40A6EC0E5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0415D-BC60-4CC3-89CB-8FE7AE518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24FE7-CA0B-40BC-B256-10DEE745D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0551F-0AB6-44FC-BFAB-E5B6D1FB5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F057F-E6C1-4BD0-B308-E226C688C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634A5-8B30-4600-AE15-AD5849C31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DA1F5-2585-4139-B32D-7B1B48B05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8E68C-35BD-4D3A-B265-A04233164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33D3E-5D6E-486F-9446-E9ED0808F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3290E-62C0-4874-A15A-B1319BF01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120C3-79DB-44D9-8EF5-007D52417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5E51D-006E-4BE0-AEF0-CF62F1D01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07351-DA60-4450-A95B-B2CF0D835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1FCD3-08A1-46BC-B1AA-2577BA59F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23847-90F3-47AD-AA37-05BBAAA07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3FCB-5A43-4973-A586-2BDC21B45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ECCB-6028-4556-AAD3-9399217F9A8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3949-1D9C-4312-8645-D1AEB7621FC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Travelling Up the </a:t>
            </a:r>
            <a:br>
              <a:rPr sz="4800"/>
            </a:br>
            <a:r>
              <a:rPr b="0" lang="en-US" sz="4800" spc="-1" strike="noStrike">
                <a:solidFill>
                  <a:srgbClr val="0d469b"/>
                </a:solidFill>
                <a:latin typeface="Book Antiqua"/>
              </a:rPr>
              <a:t>Learning Cur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Connecting to the BI</a:t>
            </a:r>
            <a:endParaRPr b="0" lang="en-US" sz="4400" spc="-1" strike="noStrike">
              <a:solidFill>
                <a:srgbClr val="0d469b"/>
              </a:solidFill>
              <a:latin typeface="Arial"/>
            </a:endParaRPr>
          </a:p>
        </p:txBody>
      </p:sp>
      <p:sp>
        <p:nvSpPr>
          <p:cNvPr id="110"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ell do the big ideas encompass the expecta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d you think any of the expectations fit under more than 1 big idea?</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concepts develop over the grad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other characteristics did you notice about your cluster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re anything that we can now add to /remove from our group Frayer mode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Lesson Goals</a:t>
            </a:r>
            <a:endParaRPr b="0" lang="en-US" sz="4400" spc="-1" strike="noStrike">
              <a:solidFill>
                <a:srgbClr val="0d469b"/>
              </a:solidFill>
              <a:latin typeface="Arial"/>
            </a:endParaRPr>
          </a:p>
        </p:txBody>
      </p:sp>
      <p:sp>
        <p:nvSpPr>
          <p:cNvPr id="11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need a quote here – why a good lesson goal important?&gt;&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one cluster of expectations and write a lesson goal based on that top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your lesson goal on a large piece of paper and post near the expectation clu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Gallery Walk</a:t>
            </a:r>
            <a:r>
              <a:rPr b="0" lang="en-CA" sz="4400" spc="-1" strike="noStrike">
                <a:solidFill>
                  <a:srgbClr val="0d469b"/>
                </a:solidFill>
                <a:latin typeface="Arial"/>
              </a:rPr>
              <a:t>	</a:t>
            </a:r>
            <a:endParaRPr b="0" lang="en-US" sz="4400" spc="-1" strike="noStrike">
              <a:solidFill>
                <a:srgbClr val="0d469b"/>
              </a:solidFill>
              <a:latin typeface="Arial"/>
            </a:endParaRPr>
          </a:p>
        </p:txBody>
      </p:sp>
      <p:sp>
        <p:nvSpPr>
          <p:cNvPr id="11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ing the sticky notes, provide feedback to your colleagues on their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me guiding question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How would you assess student achievement of the lesson goal?</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ithin the stated goal, can you think of a variety of ways for students to reach and/or demonstrate their understand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357120" y="1571760"/>
            <a:ext cx="8358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How did</a:t>
            </a:r>
            <a:r>
              <a:rPr b="0" lang="en-CA" sz="4800" spc="-1" strike="noStrike">
                <a:solidFill>
                  <a:srgbClr val="990099"/>
                </a:solidFill>
                <a:latin typeface="Garamond"/>
              </a:rPr>
              <a:t>	</a:t>
            </a:r>
            <a:r>
              <a:rPr b="0" lang="en-CA" sz="4800" spc="-1" strike="noStrike">
                <a:solidFill>
                  <a:srgbClr val="990099"/>
                </a:solidFill>
                <a:latin typeface="Garamond"/>
              </a:rPr>
              <a:t>Why did</a:t>
            </a:r>
            <a:r>
              <a:rPr b="0" lang="en-CA" sz="4800" spc="-1" strike="noStrike">
                <a:solidFill>
                  <a:srgbClr val="990099"/>
                </a:solidFill>
                <a:latin typeface="Garamond"/>
              </a:rPr>
              <a:t>	</a:t>
            </a:r>
            <a:r>
              <a:rPr b="0" lang="en-CA" sz="4800" spc="-1" strike="noStrike">
                <a:solidFill>
                  <a:srgbClr val="990099"/>
                </a:solidFill>
                <a:latin typeface="Garamond"/>
              </a:rPr>
              <a:t>Did</a:t>
            </a: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lesson goal?</a:t>
            </a:r>
            <a:r>
              <a:rPr b="0" lang="en-CA" sz="4800" spc="-1" strike="noStrike">
                <a:solidFill>
                  <a:srgbClr val="990099"/>
                </a:solidFill>
                <a:latin typeface="Garamond"/>
              </a:rPr>
              <a:t>	</a:t>
            </a: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a:t>
            </a:r>
            <a:endParaRPr b="0" lang="en-US" sz="4400" spc="-1" strike="noStrike">
              <a:solidFill>
                <a:srgbClr val="0d469b"/>
              </a:solidFill>
              <a:latin typeface="Arial"/>
            </a:endParaRPr>
          </a:p>
        </p:txBody>
      </p:sp>
      <p:sp>
        <p:nvSpPr>
          <p:cNvPr id="11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need to insert graphic he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gin to build a collaborative learning communit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n understanding of the big ideas for quadratic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tablish connections between the big ideas, the curriculum, and lesson goal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made so that all students develop deeper understandings of the big ideas of mathematics, and their connection to the real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Quadratic Card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one of you has a card with one of three models on it: graph, table of values, factored eq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your triad by matching the quadratic function represented on your c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selves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ve to the table that has the corresponding algebra tile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Meeting the Triad</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individually, two truths and on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three statements to your group mates.  They have to guess which one is th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 group to the larger group and share one truth/lie.  The rest of us will try to guess who wrot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Anticipation Guide</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insert guide here&gt;&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Frayer Model</a:t>
            </a:r>
            <a:endParaRPr b="0" lang="en-US" sz="44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insert Frayer Model he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for Algebraic Reasoning</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gebraic reasoning is a process of describing and analyzing (e.g., predicting) generalized mathematical relationships and change using words and symbols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ing mathematical relationships helps us see that there are classes of relationships and provides insight into each member of the clas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fferent representations of relationships (e.g., numeric, graphic, geometric, algebraic, verbal, concrete/pictorial) highlight different characteristics or behaviours, and can serve different purpose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mited information about a mathematical relationship can sometimes, but not always, allow us to predict other information about that relationship.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of Quadratics</a:t>
            </a:r>
            <a:endParaRPr b="0" lang="en-US" sz="44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raphical, algebraic, numerical, geometric or verbal representation of a quadratic function reveals different information about the concrete/pictorial representation of the quadrati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ation of the geometric representation allows understanding of the predictable affect of parameters on the function.  (something about transformations and combining function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Examining the Expectations</a:t>
            </a:r>
            <a:endParaRPr b="0" lang="en-US" sz="4400" spc="-1" strike="noStrike">
              <a:solidFill>
                <a:srgbClr val="0d469b"/>
              </a:solidFill>
              <a:latin typeface="Arial"/>
            </a:endParaRPr>
          </a:p>
        </p:txBody>
      </p:sp>
      <p:sp>
        <p:nvSpPr>
          <p:cNvPr id="10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according to course: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pplied</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University</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University</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rt the expectations according to the big ideas and post on the corresponding chart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09-07-19T17:37:34Z</dcterms:modified>
  <cp:revision>108</cp:revision>
  <dc:subject/>
  <dc:title>Slide 1</dc:title>
</cp:coreProperties>
</file>